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DE73-7781-4246-8530-7FAFFC35B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1F61-CC52-4648-BFF4-3E8EEB5D4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FC3C-CA5C-49B8-9898-38A87A62E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EB50-FE7A-4269-9D38-3D4EB3F80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4D0B-9F71-4E4D-A9F3-BE0D8ED6C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75331-3C9B-4BAE-8DFF-5B50265C3F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8076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4360" y="3872160"/>
            <a:ext cx="8076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0EF7B-7042-484E-85D2-90F5F2526F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4360" y="387216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22920" y="387216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08D17-31AB-4CA1-8D9D-995CD46E1D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15320" y="15235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46640" y="15235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4360" y="38721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15320" y="38721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46640" y="38721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088AF-F84C-4279-A4B4-372ACB5F19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4360" y="15235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10638-0EB6-4EE0-823E-78B5129DC7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BA1EF-3E89-42F4-99C8-983FFFE118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84C55-5B87-47DB-9000-DF2719E8CD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42873-12E2-4B5C-888C-611D1B13C9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74F0B-0FC8-4DF6-BB2B-2C9B3801B9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4360" y="387216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21A02-3DC9-4AD1-86A0-F458FA87F5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22920" y="387216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845FF-A0AC-4E3B-8C26-575CD0EE77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3872160"/>
            <a:ext cx="8076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ADBAE-D89C-4F10-8EA7-EDC90B1CC0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4360" y="15235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00064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-</a:t>
            </a:r>
            <a:fld id="{799D58AC-35C3-459B-9A7A-80F2D3F04D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ooter Placeholder 3"/>
          <p:cNvSpPr/>
          <p:nvPr/>
        </p:nvSpPr>
        <p:spPr>
          <a:xfrm>
            <a:off x="6858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-</a:t>
            </a:r>
            <a:fld id="{8A8C2EAE-3C81-4CA7-B580-F08BD1C2C7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000"/>
                </a:solidFill>
                <a:latin typeface="Arial"/>
              </a:rPr>
              <a:t>Point de d</a:t>
            </a:r>
            <a:r>
              <a:rPr b="1" lang="en-US" sz="2400" spc="-1" strike="noStrike">
                <a:solidFill>
                  <a:srgbClr val="ff8000"/>
                </a:solidFill>
                <a:latin typeface="Arial"/>
                <a:ea typeface="ＭＳ Ｐゴシック"/>
              </a:rPr>
              <a:t>é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artitive articles in French to expres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o form the partitive, use the preposition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llowed by  a definite article. Although the words some and any are often omitted in English, the partitive must always be used in Fre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08_02_p134a"/>
          <p:cNvPicPr/>
          <p:nvPr/>
        </p:nvPicPr>
        <p:blipFill>
          <a:blip r:embed="rId1"/>
          <a:stretch/>
        </p:blipFill>
        <p:spPr>
          <a:xfrm>
            <a:off x="1066680" y="4343400"/>
            <a:ext cx="658188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oter Placeholder 3"/>
          <p:cNvSpPr/>
          <p:nvPr/>
        </p:nvSpPr>
        <p:spPr>
          <a:xfrm>
            <a:off x="6858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-</a:t>
            </a:r>
            <a:fld id="{40017F3C-99E8-4156-88BD-DC43E79344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520" y="152388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partitive articles are only used with non-count nouns (nouns whose quantity cannot be expressed by      a numb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ticl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d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so means some, but it is the plural form of the indefinite article, not the part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08_02_p134b"/>
          <p:cNvPicPr/>
          <p:nvPr/>
        </p:nvPicPr>
        <p:blipFill>
          <a:blip r:embed="rId1"/>
          <a:stretch/>
        </p:blipFill>
        <p:spPr>
          <a:xfrm>
            <a:off x="1295280" y="2666880"/>
            <a:ext cx="6782040" cy="1100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08_02_p134c"/>
          <p:cNvPicPr/>
          <p:nvPr/>
        </p:nvPicPr>
        <p:blipFill>
          <a:blip r:embed="rId2"/>
          <a:stretch/>
        </p:blipFill>
        <p:spPr>
          <a:xfrm>
            <a:off x="1447920" y="4876920"/>
            <a:ext cx="6629400" cy="106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3"/>
          <p:cNvSpPr/>
          <p:nvPr/>
        </p:nvSpPr>
        <p:spPr>
          <a:xfrm>
            <a:off x="6858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-</a:t>
            </a:r>
            <a:fld id="{5D940234-01D4-4D70-A08B-BD635A9B05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80880" y="1523880"/>
            <a:ext cx="83822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ive a negative response to a question asked us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rtitive structure, as with indefinite articles, alw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pas 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08_02_p134d"/>
          <p:cNvPicPr/>
          <p:nvPr/>
        </p:nvPicPr>
        <p:blipFill>
          <a:blip r:embed="rId1"/>
          <a:stretch/>
        </p:blipFill>
        <p:spPr>
          <a:xfrm>
            <a:off x="1447920" y="2824200"/>
            <a:ext cx="6487920" cy="1595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08_02_p134e"/>
          <p:cNvPicPr/>
          <p:nvPr/>
        </p:nvPicPr>
        <p:blipFill>
          <a:blip r:embed="rId2"/>
          <a:stretch/>
        </p:blipFill>
        <p:spPr>
          <a:xfrm>
            <a:off x="2895480" y="4419720"/>
            <a:ext cx="294480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6858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-</a:t>
            </a:r>
            <a:fld id="{45DD20F9-E6D7-4C20-960B-31D20B4106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essayez"/>
          <p:cNvPicPr/>
          <p:nvPr/>
        </p:nvPicPr>
        <p:blipFill>
          <a:blip r:embed="rId1"/>
          <a:stretch/>
        </p:blipFill>
        <p:spPr>
          <a:xfrm>
            <a:off x="568440" y="1371600"/>
            <a:ext cx="8048520" cy="510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782640" y="2590920"/>
          <a:ext cx="7848720" cy="3581280"/>
        </p:xfrm>
        <a:graphic>
          <a:graphicData uri="http://schemas.openxmlformats.org/drawingml/2006/table">
            <a:tbl>
              <a:tblPr/>
              <a:tblGrid>
                <a:gridCol w="7848720"/>
              </a:tblGrid>
              <a:tr h="358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99960" indent="-399960">
                        <a:lnSpc>
                          <a:spcPct val="110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ira boit __________ eau minérale tous les soir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lnSpc>
                          <a:spcPct val="110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n frère mange __________ éclair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lnSpc>
                          <a:spcPct val="110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-ce qu’il y a __________ sucre pour le café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lnSpc>
                          <a:spcPct val="110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y a __________ kilo de sucre sur la table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lnSpc>
                          <a:spcPct val="110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, merci, je ne prends __________ frite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lnSpc>
                          <a:spcPct val="110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 buvons __________ limonade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44"/>
          <p:cNvSpPr/>
          <p:nvPr/>
        </p:nvSpPr>
        <p:spPr>
          <a:xfrm>
            <a:off x="914400" y="1600200"/>
            <a:ext cx="771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4680" indent="-1714680"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sayez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étez les phrases. Choisissez le partitif,  l’article indéfini ou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s de/d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05"/>
          <p:cNvSpPr/>
          <p:nvPr/>
        </p:nvSpPr>
        <p:spPr>
          <a:xfrm>
            <a:off x="3220920" y="2590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83c8"/>
                </a:solidFill>
                <a:latin typeface="Comic Sans MS"/>
              </a:rPr>
              <a:t>de l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9:11:18Z</dcterms:created>
  <dc:creator>Copyright © 2010 Vista Higher Learning. All rights reserved.</dc:creator>
  <dc:description/>
  <cp:keywords/>
  <dc:language>en-US</dc:language>
  <cp:lastModifiedBy>whs</cp:lastModifiedBy>
  <dcterms:modified xsi:type="dcterms:W3CDTF">2013-02-19T02:31:18Z</dcterms:modified>
  <cp:revision>37</cp:revision>
  <dc:subject>Structures 8.2</dc:subject>
  <dc:title>PROMENADES</dc:title>
</cp:coreProperties>
</file>